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5A4-17A6-4879-9C2F-E192C76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1CC-C614-4382-B132-08FC28CB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660-7CC0-454F-A6AA-D3888C50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8B3-FA5C-4FFB-9189-EB41272A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D151-A8CF-42F4-AC89-D993C4ED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BCB5-9EF0-46AB-8BFA-379DD32A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9AE6-6409-4F3E-8859-FF79EE21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7142-4BED-43E0-857F-CB2B04D0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B2BF-52C6-47DA-952A-BD36A91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9AD6-7E2F-470D-B8BF-27ECF9C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24B5-B5AF-4214-9218-B44BF9A5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562-2598-42E1-A0E0-4140C73C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4BE6-0161-4DCC-AE14-A27B24F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A042-B774-4247-A6C4-66E5AC6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8AA9-5612-4944-8CF8-A12790D0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895-5E11-44CD-A224-8F8D98B3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0765-2B41-43C7-8139-F1105114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4A2-D236-495D-A664-196434AF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779-824E-4816-85F4-3EEADC2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0DE-6E86-4898-9D62-B0A5B5A4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11C-C217-48A7-A5EE-1F34C4E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AE1-DEBB-485E-B4A4-CFF810B7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029-02E4-474A-8C69-26723E9D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767-62C5-4EFD-969A-C7C65CE6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6490-EFFF-4D26-82F8-6CFEB27FEA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AE28-AF33-42E6-B991-45994D9255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ormbase.org/das/genome/wormbase/1" TargetMode="External"/><Relationship Id="rId2" Type="http://schemas.openxmlformats.org/officeDocument/2006/relationships/hyperlink" Target="http://wormbase.org/das/genome/wormbase/1/type/tRN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ormbase.org/das/wormbase/1/genome/feat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istributed Annotation System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Version 2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, UCL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thony Cox, EBI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egg Helt, Affymetri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rew Dalke, Dalke Scientific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AS/1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120" y="1523880"/>
            <a:ext cx="1415160" cy="1069200"/>
            <a:chOff x="2895120" y="1523880"/>
            <a:chExt cx="1415160" cy="106920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1523880"/>
              <a:ext cx="530280" cy="806400"/>
              <a:chOff x="3276720" y="1523880"/>
              <a:chExt cx="530280" cy="806400"/>
            </a:xfrm>
          </p:grpSpPr>
          <p:sp>
            <p:nvSpPr>
              <p:cNvPr id="88" name=""/>
              <p:cNvSpPr/>
              <p:nvPr/>
            </p:nvSpPr>
            <p:spPr>
              <a:xfrm>
                <a:off x="327672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95959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864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307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7516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120" y="228600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62320" y="2590560"/>
            <a:ext cx="1218960" cy="1295280"/>
            <a:chOff x="2362320" y="2590560"/>
            <a:chExt cx="1218960" cy="1295280"/>
          </a:xfrm>
        </p:grpSpPr>
        <p:sp>
          <p:nvSpPr>
            <p:cNvPr id="94" name=""/>
            <p:cNvSpPr/>
            <p:nvPr/>
          </p:nvSpPr>
          <p:spPr>
            <a:xfrm flipV="1">
              <a:off x="2362320" y="32000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62320" y="3200400"/>
              <a:ext cx="12189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8128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45720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49568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572000"/>
            <a:ext cx="11430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4114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30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0720" y="4267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51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720" y="4191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M101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5556240"/>
            <a:ext cx="603000" cy="1149120"/>
            <a:chOff x="2133720" y="5556240"/>
            <a:chExt cx="603000" cy="1149120"/>
          </a:xfrm>
        </p:grpSpPr>
        <p:grpSp>
          <p:nvGrpSpPr>
            <p:cNvPr id="105" name=""/>
            <p:cNvGrpSpPr/>
            <p:nvPr/>
          </p:nvGrpSpPr>
          <p:grpSpPr>
            <a:xfrm>
              <a:off x="2133720" y="6013440"/>
              <a:ext cx="603000" cy="691920"/>
              <a:chOff x="2133720" y="6013440"/>
              <a:chExt cx="603000" cy="691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3372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2236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060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2696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84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5396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438280" y="555624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523880"/>
            <a:ext cx="1524240" cy="1067760"/>
            <a:chOff x="4724280" y="1523880"/>
            <a:chExt cx="1524240" cy="1067760"/>
          </a:xfrm>
        </p:grpSpPr>
        <p:grpSp>
          <p:nvGrpSpPr>
            <p:cNvPr id="126" name=""/>
            <p:cNvGrpSpPr/>
            <p:nvPr/>
          </p:nvGrpSpPr>
          <p:grpSpPr>
            <a:xfrm>
              <a:off x="5181480" y="1523880"/>
              <a:ext cx="530280" cy="806400"/>
              <a:chOff x="5181480" y="1523880"/>
              <a:chExt cx="530280" cy="80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518148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340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3548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799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24280" y="2286000"/>
              <a:ext cx="152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2590560"/>
            <a:ext cx="1905120" cy="609840"/>
            <a:chOff x="3581280" y="2590560"/>
            <a:chExt cx="1905120" cy="609840"/>
          </a:xfrm>
        </p:grpSpPr>
        <p:sp>
          <p:nvSpPr>
            <p:cNvPr id="133" name=""/>
            <p:cNvSpPr/>
            <p:nvPr/>
          </p:nvSpPr>
          <p:spPr>
            <a:xfrm flipH="1">
              <a:off x="3581280" y="3200400"/>
              <a:ext cx="1905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864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523880"/>
            <a:ext cx="1523880" cy="1067760"/>
            <a:chOff x="6858000" y="1523880"/>
            <a:chExt cx="1523880" cy="1067760"/>
          </a:xfrm>
        </p:grpSpPr>
        <p:grpSp>
          <p:nvGrpSpPr>
            <p:cNvPr id="136" name=""/>
            <p:cNvGrpSpPr/>
            <p:nvPr/>
          </p:nvGrpSpPr>
          <p:grpSpPr>
            <a:xfrm>
              <a:off x="7315200" y="1523880"/>
              <a:ext cx="530280" cy="806400"/>
              <a:chOff x="7315200" y="1523880"/>
              <a:chExt cx="530280" cy="806400"/>
            </a:xfrm>
          </p:grpSpPr>
          <p:sp>
            <p:nvSpPr>
              <p:cNvPr id="137" name=""/>
              <p:cNvSpPr/>
              <p:nvPr/>
            </p:nvSpPr>
            <p:spPr>
              <a:xfrm>
                <a:off x="73152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771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692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36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68580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962520"/>
            <a:ext cx="4261320" cy="1447560"/>
            <a:chOff x="4800600" y="3962520"/>
            <a:chExt cx="4261320" cy="1447560"/>
          </a:xfrm>
        </p:grpSpPr>
        <p:grpSp>
          <p:nvGrpSpPr>
            <p:cNvPr id="143" name=""/>
            <p:cNvGrpSpPr/>
            <p:nvPr/>
          </p:nvGrpSpPr>
          <p:grpSpPr>
            <a:xfrm>
              <a:off x="4800600" y="3962520"/>
              <a:ext cx="4191120" cy="1447560"/>
              <a:chOff x="4800600" y="3962520"/>
              <a:chExt cx="4191120" cy="1447560"/>
            </a:xfrm>
          </p:grpSpPr>
          <p:sp>
            <p:nvSpPr>
              <p:cNvPr id="144" name=""/>
              <p:cNvSpPr/>
              <p:nvPr/>
            </p:nvSpPr>
            <p:spPr>
              <a:xfrm>
                <a:off x="4800600" y="3962520"/>
                <a:ext cx="419112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29200" y="441972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449568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77320" y="4572000"/>
                <a:ext cx="83808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63200" y="4114800"/>
                <a:ext cx="102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AC00302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040" y="41911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M1015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78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50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8168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6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7732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1480" y="480060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41008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343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8487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800100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85345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1640" y="4572000"/>
                <a:ext cx="62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1029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31920" y="4572000"/>
                <a:ext cx="65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82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45600" y="45720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112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51000" y="4572000"/>
                <a:ext cx="55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44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041320" y="426708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C0051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1523880"/>
            <a:ext cx="1523880" cy="1067760"/>
            <a:chOff x="457200" y="1523880"/>
            <a:chExt cx="1523880" cy="1067760"/>
          </a:xfrm>
        </p:grpSpPr>
        <p:grpSp>
          <p:nvGrpSpPr>
            <p:cNvPr id="168" name=""/>
            <p:cNvGrpSpPr/>
            <p:nvPr/>
          </p:nvGrpSpPr>
          <p:grpSpPr>
            <a:xfrm>
              <a:off x="914400" y="1523880"/>
              <a:ext cx="530280" cy="806400"/>
              <a:chOff x="914400" y="1523880"/>
              <a:chExt cx="530280" cy="80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9144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63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684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28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2640" y="2590560"/>
            <a:ext cx="1219320" cy="609840"/>
            <a:chOff x="1142640" y="2590560"/>
            <a:chExt cx="1219320" cy="609840"/>
          </a:xfrm>
        </p:grpSpPr>
        <p:sp>
          <p:nvSpPr>
            <p:cNvPr id="175" name=""/>
            <p:cNvSpPr/>
            <p:nvPr/>
          </p:nvSpPr>
          <p:spPr>
            <a:xfrm flipH="1">
              <a:off x="1142640" y="3200400"/>
              <a:ext cx="1219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30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4724280"/>
            <a:ext cx="3809880" cy="76320"/>
            <a:chOff x="457200" y="4724280"/>
            <a:chExt cx="3809880" cy="76320"/>
          </a:xfrm>
        </p:grpSpPr>
        <p:sp>
          <p:nvSpPr>
            <p:cNvPr id="178" name=""/>
            <p:cNvSpPr/>
            <p:nvPr/>
          </p:nvSpPr>
          <p:spPr>
            <a:xfrm>
              <a:off x="4572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800600"/>
              <a:ext cx="3812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62120" y="4724280"/>
              <a:ext cx="380520" cy="76320"/>
              <a:chOff x="762120" y="4724280"/>
              <a:chExt cx="380520" cy="763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7621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9475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666880" y="4724280"/>
              <a:ext cx="75960" cy="76320"/>
              <a:chOff x="2666880" y="4724280"/>
              <a:chExt cx="75960" cy="7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266688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70360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5480" y="4724280"/>
              <a:ext cx="227880" cy="76320"/>
              <a:chOff x="2895480" y="4724280"/>
              <a:chExt cx="227880" cy="763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289548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00636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447920" y="4724280"/>
              <a:ext cx="380520" cy="76320"/>
              <a:chOff x="1447920" y="4724280"/>
              <a:chExt cx="380520" cy="76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4479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6333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114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480" y="4952880"/>
            <a:ext cx="3886200" cy="228600"/>
            <a:chOff x="609480" y="4952880"/>
            <a:chExt cx="3886200" cy="228600"/>
          </a:xfrm>
        </p:grpSpPr>
        <p:sp>
          <p:nvSpPr>
            <p:cNvPr id="198" name=""/>
            <p:cNvSpPr/>
            <p:nvPr/>
          </p:nvSpPr>
          <p:spPr>
            <a:xfrm>
              <a:off x="6094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35880" y="5556240"/>
            <a:ext cx="603000" cy="1149120"/>
            <a:chOff x="6635880" y="5556240"/>
            <a:chExt cx="603000" cy="1149120"/>
          </a:xfrm>
        </p:grpSpPr>
        <p:grpSp>
          <p:nvGrpSpPr>
            <p:cNvPr id="205" name=""/>
            <p:cNvGrpSpPr/>
            <p:nvPr/>
          </p:nvGrpSpPr>
          <p:grpSpPr>
            <a:xfrm>
              <a:off x="6635880" y="6013440"/>
              <a:ext cx="603000" cy="691920"/>
              <a:chOff x="6635880" y="6013440"/>
              <a:chExt cx="603000" cy="691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3588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2452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9276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912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5000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612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6940440" y="555624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560" y="2590920"/>
            <a:ext cx="3886560" cy="1295280"/>
            <a:chOff x="3733560" y="2590920"/>
            <a:chExt cx="3886560" cy="1295280"/>
          </a:xfrm>
        </p:grpSpPr>
        <p:sp>
          <p:nvSpPr>
            <p:cNvPr id="226" name=""/>
            <p:cNvSpPr/>
            <p:nvPr/>
          </p:nvSpPr>
          <p:spPr>
            <a:xfrm flipV="1">
              <a:off x="76201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3505320"/>
              <a:ext cx="3886200" cy="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7339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627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010280" y="350532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615080" cy="638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17010" t="46509" r="67983" b="28447"/>
          <a:stretch/>
        </p:blipFill>
        <p:spPr>
          <a:xfrm>
            <a:off x="1676520" y="3124080"/>
            <a:ext cx="201456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5760" y="227160"/>
            <a:ext cx="761508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eficiencies of DAS/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at for representing genomic features too rigid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scription of genomic features too flexibl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IDs for genomic feature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write-back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AS/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s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formats for representing genomic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bitrary nesting of features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S/2 More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s Sequence Ontology (SO) for describing featur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y to accept attribute ontologi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dd your own ontology, but publish it!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EST-Style IDs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Data Sour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genome/wormbase/1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 Typ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ormbase.org/das/genome/wormbase/1/type/tRN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http://wormbase.org/das/genome/wormbase/1/feature/gene0038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Write-Back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UT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pdate identified featur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OS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wormbase/1/genome/featur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rea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ele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Progress</a:t>
            </a:r>
            <a:endParaRPr b="0" lang="en-US" sz="36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raft spec up and ready for commen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ttp://www.biodas.or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rver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Allen Da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ient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Gregg Hel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ject still in flux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8T01:09:44Z</dcterms:modified>
  <cp:revision>698</cp:revision>
  <dc:subject/>
  <dc:title>Training</dc:title>
</cp:coreProperties>
</file>